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CA65-FEA8-43A0-A570-593141921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512C-A2A7-4CE9-AEEC-BAF13BF98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C729-682D-41DF-9F8E-5AA93A2C0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6113-4937-403D-9627-D831CBAA8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794D-81DB-4626-B4C8-82F88AA7D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30B6-1549-4020-B780-A69144EFA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A374-3082-4506-BCCB-62B828998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6FB6-3FB0-445F-B494-CB1AE8DE8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515E-1D94-4321-8446-D2224DCBC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6A0B-95CE-477C-8CA2-1E23DBC4F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B2C9-2068-491F-BBF4-4417DE524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26F-39C5-4D27-AA6E-037B6A55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2D4-6A26-4B49-A989-2976738C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0F9E-CD65-463F-A0FC-497EB442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0428-F2E7-4848-B2E4-07D6BD91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28F-9A1D-4888-80F4-5D918102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1FA3-70E6-4412-8ECC-C8F82F7C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59D1-1AF4-4280-A1AB-1BF8B192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7CC-F7E3-4685-B8EC-B3BC984C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B604-A27C-4317-9958-3587407E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D51-5B44-4C23-BC8F-0EB720A0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00C-3D79-4F21-8C58-51E88947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67BB-88D3-4D79-9FD2-18883771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F801-90D6-46F7-A50B-35B3A467B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01b Review (Warm U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perimeter of 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e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1905120" y="2514600"/>
            <a:ext cx="4952880" cy="838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371600" y="2590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638680" y="25146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733920" y="33526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33720" y="4800600"/>
            <a:ext cx="48006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048120" y="43434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x+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838080" y="5181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x -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rmula used to find the volume of a cyli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v if r = 3 and h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h if V = 312 and r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1219320" y="457200"/>
                <a:ext cx="2222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=Õ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following equation for  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following equation for 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1619280" y="1263600"/>
                <a:ext cx="18144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1422360" y="3733920"/>
                <a:ext cx="2718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−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OC Review: 1.0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 Solving with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ice is building a rectangular garden.  Her garden will be next to an existing 12 foot fence.  She has a total of 44 feet of fencing to build the other three sides.  What will be the dimensions of her gar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value of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1981080" y="2057400"/>
            <a:ext cx="3962520" cy="1523880"/>
          </a:xfrm>
          <a:prstGeom prst="triangle">
            <a:avLst>
              <a:gd name="adj" fmla="val 23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590920" y="2819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35268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2895480" y="205740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value of 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905120" y="2362320"/>
            <a:ext cx="510516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209680" y="2666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meter = 64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1430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1911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mu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can be used to find a term in a geometric sequence, where a is the first term, r is the common ratio of the terms and n is the ordinal number of the term.  What is the sixth term in the sequence be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, 30, 10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971800" y="380880"/>
                <a:ext cx="25588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·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value of x, a, w and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990720" y="2286000"/>
                <a:ext cx="67816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w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w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three consecutive integers whose sum is 13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three consecutive odd integers is -249.  Find the inte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5:46:58Z</dcterms:created>
  <dc:creator>Sharon Fieldman</dc:creator>
  <dc:description/>
  <dc:language>en-US</dc:language>
  <cp:lastModifiedBy>sfieldman</cp:lastModifiedBy>
  <dcterms:modified xsi:type="dcterms:W3CDTF">2011-05-02T15:05:09Z</dcterms:modified>
  <cp:revision>16</cp:revision>
  <dc:subject/>
  <dc:title>1.01b Review</dc:title>
</cp:coreProperties>
</file>